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EC5-C5EC-4542-BBD6-A6FE1F07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126-C6AF-4068-97A4-4CDCBC81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398-C3F3-4D0A-933F-26FFA2FD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AB9-51B3-4B55-8537-05E077E5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91FB-50FA-421C-B9DC-B3566070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BB6A-23A8-4454-9055-18F6BDA4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C9E5-E54A-443D-BD36-4F56D3A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E5D8-B770-4E96-9ECB-40DA5213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3ABD-7E33-429C-A6CF-0522E594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51F6-AFE6-47AD-A13B-2022C952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E752-4B20-44F7-82FA-86045BFB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613-B8D2-483F-8020-CC0D6EEC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2B83-13BB-4DDE-8263-E9F3F77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644F-43E5-4565-BEFD-9F653D9D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5F47-6674-46F1-8EF1-B2D2B875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DBF5-70B0-439E-8C71-56B21A7F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F7B7-9B17-41AB-8BB0-A5FCC7AA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4A41-3237-4511-8E99-4C3E830D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1D90-0075-4957-9858-3103ED80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6786F-BEF7-4975-813E-1ED63AFF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36E7-6393-4CB4-AD48-0EE9D262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7265-591E-45F8-A8A0-A37E2758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5C6-FF64-43AD-A7D0-EA8C57ED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D405-DED0-46C4-A36E-AB3FDD78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3F18-944C-4C1F-B5C9-B9504F69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C6715-5B61-496C-9DFE-6C4470A9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1EA11-25D0-4E32-8F51-41ABA322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CAB8-64F0-442A-A483-0013C16A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99F3-42F6-436A-86A1-574CC45E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ABDB-09E8-4C7D-891C-D8D94514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C11B7-A6EF-4A42-B573-858AA2B7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81A6-5AB6-42F4-A0EF-A891BE26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94FA-5471-4426-B38A-3AFF314A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F78-0C6E-430A-8A4A-7D2F34A0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1FA65-8271-4159-AF75-865C45AE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4FA23-ECB3-4F20-A714-E6B0F441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A5F26-70E0-4468-B03C-D8C58A08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3C6B-958F-4C10-BE3A-72B3EFB3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6A68-65A0-4778-B080-5F36381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F3D9-19FE-4C5A-8367-65B53FA4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F6A5B-A99B-4F7A-8D3E-A5BFD386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ECB2E-8C1A-4F6B-9927-0F2D0C54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ADE65-03E0-4747-BA2F-F78D2877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6C3-F8B7-4411-9B57-2F429867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45684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9DA-A39F-4B9F-BB64-225440B0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B6A-CA83-4639-B224-B4AEEAE5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256-0EC1-43A5-8E08-F546CF05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E24-4B72-4E17-BCC9-AEEB892A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ABC7-268F-4EFA-B456-8BFD49034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7145-CDDF-4A4D-8C5C-D390CD5B4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ccecff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ccecff"/>
              </a:buClr>
              <a:buFont typeface="Symbol" charset="2"/>
              <a:buChar char="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2F6A-68CF-4DBC-A61C-AC1D4F9D54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36A0-B44C-433A-ADB9-FDF2B6706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640" y="1346040"/>
            <a:ext cx="8382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ntanglement and All Th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82680" y="293364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r Adrian Flitne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chool of Physic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University of Melbourn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56560" y="950760"/>
            <a:ext cx="4877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e can generalize this to mixed states by defining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(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) = max{0,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},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’s are the square roots of the eigenvalues of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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nd writing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) ]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54000" y="1584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12920" y="1587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70040" y="1589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1960" y="15908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0400" y="183996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7360" y="5357880"/>
            <a:ext cx="40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W.K. Wooters, </a:t>
            </a:r>
            <a:r>
              <a:rPr b="0" i="1" lang="en-AU" sz="1400" spc="-1" strike="noStrike">
                <a:solidFill>
                  <a:srgbClr val="33cc33"/>
                </a:solidFill>
                <a:latin typeface="Times New Roman"/>
              </a:rPr>
              <a:t>Phys. Rev. Lett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. </a:t>
            </a:r>
            <a:r>
              <a:rPr b="1" lang="en-AU" sz="1400" spc="-1" strike="noStrike">
                <a:solidFill>
                  <a:srgbClr val="33cc33"/>
                </a:solidFill>
                <a:latin typeface="Times New Roman"/>
              </a:rPr>
              <a:t>80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, 2245 (1998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6560" y="3543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440" y="3618000"/>
            <a:ext cx="798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local entropy of one qubit (the entropy of information with the other qubit traced out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s also a measure of entanglement: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lang="en-AU" sz="1600" spc="-1" strike="noStrike">
                <a:solidFill>
                  <a:srgbClr val="000000"/>
                </a:solidFill>
                <a:latin typeface="Math C"/>
                <a:ea typeface="Math C"/>
              </a:rPr>
              <a:t>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the combined state is separable,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r>
              <a:rPr b="0" lang="en-AU" sz="1600" spc="-1" strike="noStrike">
                <a:solidFill>
                  <a:srgbClr val="000000"/>
                </a:solidFill>
                <a:latin typeface="Math C"/>
                <a:ea typeface="Math C"/>
              </a:rPr>
              <a:t>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entanglement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Multi-qubit Stat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-65880" y="1535040"/>
            <a:ext cx="950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 real parameters to fix a normalized quantum state of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qubits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group of LU operations SU(2) 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SU(2) has 3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real parameter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       –</a:t>
            </a:r>
            <a:r>
              <a:rPr b="0" i="1" lang="en-AU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3 N – 2 real numbers are required to parameterize the sets of inequivalent pure quantum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states under LU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960" y="14968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9320" y="20829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960" y="3122640"/>
            <a:ext cx="525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Generalization of the Schmidt normal form for 3 qubits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|000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e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|100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|101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|110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|111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ith the normalization condition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1;       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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0 &lt;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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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88680" y="3583080"/>
            <a:ext cx="31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Math A"/>
                <a:ea typeface="Math A"/>
              </a:rPr>
              <a:t>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7960" y="3743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46040" y="3730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6040" y="3757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55920" y="3746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82840" y="3747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04880" y="40766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79680" y="42292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200" y="4748040"/>
            <a:ext cx="25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&gt; 3 it only gets worse!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55600" y="3530520"/>
            <a:ext cx="4660920" cy="520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0600" y="5764320"/>
            <a:ext cx="36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J. Eisert and D. Gross, quant-ph/0505149 (2005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72200" y="42307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8720" y="5359320"/>
            <a:ext cx="74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A. Ac</a:t>
            </a:r>
            <a:r>
              <a:rPr b="0" lang="en-US" sz="1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í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n, A. Andrianov, L. Costa, E. Jan</a:t>
            </a:r>
            <a:r>
              <a:rPr b="0" lang="en-US" sz="1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é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, J.I. Latorre and R. Tarrach, </a:t>
            </a:r>
            <a:r>
              <a:rPr b="0" i="1" lang="en-AU" sz="1400" spc="-1" strike="noStrike">
                <a:solidFill>
                  <a:srgbClr val="33cc33"/>
                </a:solidFill>
                <a:latin typeface="Times New Roman"/>
              </a:rPr>
              <a:t>Phys. Rev. Lett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. </a:t>
            </a:r>
            <a:r>
              <a:rPr b="1" lang="en-AU" sz="1400" spc="-1" strike="noStrike">
                <a:solidFill>
                  <a:srgbClr val="33cc33"/>
                </a:solidFill>
                <a:latin typeface="Times New Roman"/>
              </a:rPr>
              <a:t>85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, 1560 (2000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Equivalence Classes for 3 Qubi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71320" y="1473120"/>
            <a:ext cx="760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Product states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Two qubit entanglement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Greenberger-Horne-Zeilinger (GHZ) state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W stat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778480" y="1955880"/>
            <a:ext cx="14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Math B"/>
                <a:ea typeface="Math B"/>
              </a:rPr>
              <a:t>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AU" sz="2000" spc="-1" strike="noStrike">
                <a:solidFill>
                  <a:srgbClr val="000000"/>
                </a:solidFill>
                <a:latin typeface="Math A"/>
                <a:ea typeface="Math A"/>
              </a:rPr>
              <a:t>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Math B"/>
                <a:ea typeface="Math B"/>
              </a:rPr>
              <a:t>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AU" sz="2000" spc="-1" strike="noStrike">
                <a:solidFill>
                  <a:srgbClr val="000000"/>
                </a:solidFill>
                <a:latin typeface="Math A"/>
                <a:ea typeface="Math A"/>
              </a:rPr>
              <a:t>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00640" y="277020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-BC, B-AC, C-AB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57800" y="3767040"/>
            <a:ext cx="30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|GHZ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= ( |000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+ |111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)/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29360" y="4516560"/>
            <a:ext cx="36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|W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= ( |001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+ |010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+ |100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)/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5649840"/>
            <a:ext cx="48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W. D</a:t>
            </a:r>
            <a:r>
              <a:rPr b="0" lang="en-US" sz="1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ü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r, G. Vidal and J.I. Cirac, </a:t>
            </a:r>
            <a:r>
              <a:rPr b="0" i="1" lang="en-AU" sz="1400" spc="-1" strike="noStrike">
                <a:solidFill>
                  <a:srgbClr val="33cc33"/>
                </a:solidFill>
                <a:latin typeface="Times New Roman"/>
              </a:rPr>
              <a:t>Phys. Rev. A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lang="en-AU" sz="1400" spc="-1" strike="noStrike">
                <a:solidFill>
                  <a:srgbClr val="33cc33"/>
                </a:solidFill>
                <a:latin typeface="Times New Roman"/>
              </a:rPr>
              <a:t>62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, 062314 (2000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3-tangle and </a:t>
            </a:r>
            <a:r>
              <a:rPr b="1" i="1" lang="en-AU" sz="3600" spc="-1" strike="noStrike">
                <a:solidFill>
                  <a:srgbClr val="800080"/>
                </a:solidFill>
                <a:latin typeface="Arial"/>
              </a:rPr>
              <a:t>n</a:t>
            </a: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-tangl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85200" y="28558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n we can write the 3-tangle as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3000" y="1925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5040" y="1560600"/>
            <a:ext cx="3168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Decompose a pure tri-partite state a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|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j k</a:t>
            </a:r>
            <a:r>
              <a:rPr b="0" lang="el-GR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51400" y="229536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45160" y="22334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787320" y="3328920"/>
            <a:ext cx="7772400" cy="503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41000" y="4621320"/>
            <a:ext cx="633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e can generalize this to an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tangle for even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&gt; 3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For odd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&gt; 3, the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tangle is not symmetric under the interchange of qubit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nd so is not a good measure of entanglement for these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2400" y="5992920"/>
            <a:ext cx="46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A. Wong and N. Christensen, </a:t>
            </a:r>
            <a:r>
              <a:rPr b="0" i="1" lang="en-AU" sz="1400" spc="-1" strike="noStrike">
                <a:solidFill>
                  <a:srgbClr val="33cc33"/>
                </a:solidFill>
                <a:latin typeface="Times New Roman"/>
              </a:rPr>
              <a:t>Phys. Rev. A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lang="en-AU" sz="1400" spc="-1" strike="noStrike">
                <a:solidFill>
                  <a:srgbClr val="33cc33"/>
                </a:solidFill>
                <a:latin typeface="Times New Roman"/>
              </a:rPr>
              <a:t>63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, 044301 (2001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6800" y="5626080"/>
            <a:ext cx="56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V. Coffman, J. Kundu, and W.K. Wooters, </a:t>
            </a:r>
            <a:r>
              <a:rPr b="0" i="1" lang="en-AU" sz="1400" spc="-1" strike="noStrike">
                <a:solidFill>
                  <a:srgbClr val="33cc33"/>
                </a:solidFill>
                <a:latin typeface="Times New Roman"/>
              </a:rPr>
              <a:t>Phys. Rev. A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lang="en-AU" sz="1400" spc="-1" strike="noStrike">
                <a:solidFill>
                  <a:srgbClr val="33cc33"/>
                </a:solidFill>
                <a:latin typeface="Times New Roman"/>
              </a:rPr>
              <a:t>61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, 052306 (2000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3200" y="3960720"/>
            <a:ext cx="70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0 and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1 and the summation is over all repeated indices.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51920" y="40989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60160" y="40878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50440" y="41022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34640" y="41036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Classification of 3-qubit Pure Stat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1633680" y="1676520"/>
            <a:ext cx="4903560" cy="2970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97440" y="4938840"/>
            <a:ext cx="76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local entopies S  , S  , S  , and the 3-tangle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different classes of 3-qubit pure states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17440" y="5076720"/>
            <a:ext cx="29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49720" y="506556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54280" y="5067360"/>
            <a:ext cx="27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8000" y="556092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8240" y="5586480"/>
            <a:ext cx="48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W. D</a:t>
            </a:r>
            <a:r>
              <a:rPr b="0" lang="en-US" sz="1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ü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r, G. Vidal and J.I. Cirac, </a:t>
            </a:r>
            <a:r>
              <a:rPr b="0" i="1" lang="en-AU" sz="1400" spc="-1" strike="noStrike">
                <a:solidFill>
                  <a:srgbClr val="33cc33"/>
                </a:solidFill>
                <a:latin typeface="Times New Roman"/>
              </a:rPr>
              <a:t>Phys. Rev. A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lang="en-AU" sz="1400" spc="-1" strike="noStrike">
                <a:solidFill>
                  <a:srgbClr val="33cc33"/>
                </a:solidFill>
                <a:latin typeface="Times New Roman"/>
              </a:rPr>
              <a:t>62</a:t>
            </a:r>
            <a:r>
              <a:rPr b="0" lang="en-AU" sz="1400" spc="-1" strike="noStrike">
                <a:solidFill>
                  <a:srgbClr val="33cc33"/>
                </a:solidFill>
                <a:latin typeface="Times New Roman"/>
              </a:rPr>
              <a:t>, 062314 (2000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Some Conclus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473120"/>
            <a:ext cx="760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Entanglement can be considered a physical resourc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States are considered equivalent if they can be transformed into one another by local operations (SLOCC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We have various ways measuring the entanglement of 2 qubit states: all fully entangled states are equivalent to a Bell stat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There are two classes of fully entangled 3 qubit states, the W and GHZ state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There are entanglement measures that can distinguish the different classes of entanglement of 3 qubit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There are 9 classes of fully entangled 4 qubit states and after that I don’t even want to think about it!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We don’t have a general theory of entanglement for n-qubit state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1320" y="1473120"/>
            <a:ext cx="760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Entropy of  information – Shannon and Von Neuman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Equivalence classes of multi-partite quantum states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LU, LOCC, SLOCC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Two particle entanglement – EPR and Bell’s inequalit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Entanglement measur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Equivalence classes for multi-qubit stat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Three particle entanglement – GHZ and W stat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Entropy of Information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1680" y="1459080"/>
            <a:ext cx="8377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For some probability distribution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{p  , …, p  }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Shanno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entropy associated with the distribution i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H(p  , …, p</a:t>
            </a:r>
            <a:r>
              <a:rPr b="0" lang="en-AU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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[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4920" y="1622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2106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85920" y="21081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3880" y="16016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7320" y="2282760"/>
            <a:ext cx="23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22920" y="2144880"/>
            <a:ext cx="23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3440" y="2146320"/>
            <a:ext cx="23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89200" y="1959120"/>
            <a:ext cx="3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2520" y="2786040"/>
            <a:ext cx="609768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For a quantum system with density matrix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Von Neuman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entropy i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S(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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– tr[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= –     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log [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],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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are the eigenvalues of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(and 0 log 0 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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0)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8560" y="3510000"/>
            <a:ext cx="3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49560" y="37987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43320" y="36734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63960" y="3699000"/>
            <a:ext cx="21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6280" y="41814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8640" y="4811760"/>
            <a:ext cx="690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entropy is a measure of how much uncertainty there is in the state of a system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 pure state has S = 0;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 completely mixed state has maximal entropy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Equivalence class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60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A theory of entanglement should not distinguish between states that differ only by a local opera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cc"/>
                </a:solidFill>
                <a:latin typeface="Times New Roman"/>
              </a:rPr>
              <a:t>LU – local unitary operation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cc"/>
                </a:solidFill>
                <a:latin typeface="Times New Roman"/>
              </a:rPr>
              <a:t>LOCC – general local quantum operations assisted by classical </a:t>
            </a:r>
            <a:r>
              <a:rPr b="0" lang="en-AU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AU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AU" sz="1800" spc="-1" strike="noStrike">
                <a:solidFill>
                  <a:srgbClr val="0000cc"/>
                </a:solidFill>
                <a:latin typeface="Times New Roman"/>
              </a:rPr>
              <a:t>            communicatio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cc"/>
                </a:solidFill>
                <a:latin typeface="Times New Roman"/>
              </a:rPr>
              <a:t>SLOCC – stochastic LOCC, i.e., using LOCC but without having to               </a:t>
            </a:r>
            <a:r>
              <a:rPr b="0" lang="en-AU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AU" sz="1800" spc="-1" strike="noStrike">
                <a:solidFill>
                  <a:srgbClr val="0000cc"/>
                </a:solidFill>
                <a:latin typeface="Times New Roman"/>
              </a:rPr>
              <a:t>              achieve the transformation with certaint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Two states are equivalent under SLOCC iff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79280" y="4457880"/>
            <a:ext cx="10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|</a:t>
            </a:r>
            <a:r>
              <a:rPr b="0" lang="en-US" sz="1800" spc="-1" strike="noStrike">
                <a:solidFill>
                  <a:srgbClr val="000000"/>
                </a:solidFill>
                <a:latin typeface="Math A"/>
                <a:ea typeface="Math A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32000" y="4352760"/>
            <a:ext cx="77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SLOCC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25960" y="44672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Math A"/>
                <a:ea typeface="Math A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29000" y="4341960"/>
            <a:ext cx="67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SLOCC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62400" y="44467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Two Qubit Entanglemen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32840" y="1509840"/>
            <a:ext cx="4307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ll two qubit pure state can be converted by LU t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=  cos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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|00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+ sin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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|11</a:t>
            </a:r>
            <a:r>
              <a:rPr b="0" lang="en-AU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for some value of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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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[0,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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/4]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76440" y="1968480"/>
            <a:ext cx="2032200" cy="406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21240" y="2158920"/>
            <a:ext cx="1054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93400" y="199224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3300"/>
                </a:solidFill>
                <a:latin typeface="Times New Roman"/>
              </a:rPr>
              <a:t>Schmidt normal form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05920" y="3441600"/>
            <a:ext cx="7736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f cos 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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= 1, |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is a product state (unentangled),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otherwise it is entangled and can be converted into the EPR stat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|00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+ |11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ith some probability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at is a quantitative measure of the non-local resources contained in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 single copy of |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AU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82960" y="4483080"/>
            <a:ext cx="81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Bell’s Inequality and EPR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90720" y="1727280"/>
            <a:ext cx="142236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0280" y="1766880"/>
            <a:ext cx="142236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25680" y="236232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2362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30200" y="1790640"/>
            <a:ext cx="6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66040" y="17794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99160" y="219564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AU" sz="1800" spc="-1" strike="noStrike">
                <a:solidFill>
                  <a:srgbClr val="000000"/>
                </a:solidFill>
                <a:latin typeface="Math B"/>
                <a:ea typeface="Math B"/>
              </a:rPr>
              <a:t>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3200" y="251460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0" lang="en-AU" sz="1800" spc="-1" strike="noStrike">
                <a:solidFill>
                  <a:srgbClr val="000000"/>
                </a:solidFill>
                <a:latin typeface="Math B"/>
                <a:ea typeface="Math B"/>
              </a:rPr>
              <a:t>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5440" y="2540160"/>
            <a:ext cx="7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AU" sz="1800" spc="-1" strike="noStrike">
                <a:solidFill>
                  <a:srgbClr val="000000"/>
                </a:solidFill>
                <a:latin typeface="Math B"/>
                <a:ea typeface="Math B"/>
              </a:rPr>
              <a:t>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60200" y="222408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lang="en-AU" sz="1800" spc="-1" strike="noStrike">
                <a:solidFill>
                  <a:srgbClr val="000000"/>
                </a:solidFill>
                <a:latin typeface="Math B"/>
                <a:ea typeface="Math B"/>
              </a:rPr>
              <a:t>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84680" y="1854360"/>
            <a:ext cx="1130400" cy="10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82160" y="204480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omposit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50760" y="220356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cc33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36200" y="2603520"/>
            <a:ext cx="304920" cy="6350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1800" y="321156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Choose to measure Q or R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69880" y="3200400"/>
            <a:ext cx="203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Choose to measure S or T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72200" y="2217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cc33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80360" y="2592360"/>
            <a:ext cx="368280" cy="647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7400" y="4862520"/>
            <a:ext cx="86875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local realism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, Q,R,S and T all correspond to elements of reality, are local (to Alice or Bob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nd have values independently of what we choose to measure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Q S + R S + R T – Q T = (R + Q) S + (R – Q) T = 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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verage value 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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Q S + R S + R T – Q T 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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5840" y="3668760"/>
            <a:ext cx="8207640" cy="1067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Einstein, Podolsky, and Rosen (1935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Realism: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if we can predict with certainty the value of a property prior to a measuremen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must correspond to an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element of reality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Locality: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properties of an object reside with the objec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60451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33640" y="60595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7840" y="60609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52800" y="606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5931000"/>
            <a:ext cx="2730600" cy="444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56360" y="6005520"/>
            <a:ext cx="13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Times New Roman"/>
              </a:rPr>
              <a:t>Bell inequality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35440" y="618480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05000" y="633240"/>
            <a:ext cx="3838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ow, let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= |01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- |10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Q = Z   ,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R = X   ;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S = –</a:t>
            </a:r>
            <a:r>
              <a:rPr b="0" lang="en-AU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Z   – X   ,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 = Z   – X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92160" y="116856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41320" y="238932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59320" y="2390760"/>
            <a:ext cx="66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14760" y="150804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960" y="14968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28880" y="219384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218268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21240" y="218448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79880" y="218592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2880" y="2889360"/>
            <a:ext cx="38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 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lang="en-US" sz="1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lang="en-US" sz="1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T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 T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 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1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1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T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 T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02200" y="31622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360" y="3606840"/>
            <a:ext cx="3886200" cy="406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06760" y="3797280"/>
            <a:ext cx="596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69160" y="360504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3300"/>
                </a:solidFill>
                <a:latin typeface="Times New Roman"/>
              </a:rPr>
              <a:t>violates Bell inequality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0920" y="4405320"/>
            <a:ext cx="616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Experimental tests confirm Nature is consistent with quantum mechanics;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local realism is out!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Entanglement Measures - Summar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771480" y="1471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5560" y="1052640"/>
            <a:ext cx="258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3300"/>
                </a:solidFill>
                <a:latin typeface="Times New Roman"/>
              </a:rPr>
              <a:t>This page added after the talk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5680" y="2170080"/>
            <a:ext cx="794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66"/>
                </a:solidFill>
                <a:latin typeface="Times New Roman"/>
              </a:rPr>
              <a:t>Entanglement of formation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how many maximally entangled states the parties have to share </a:t>
            </a:r>
            <a:r>
              <a:rPr b="0" i="1" lang="en-AU" sz="1600" spc="-1" strike="noStrike">
                <a:solidFill>
                  <a:srgbClr val="000066"/>
                </a:solidFill>
                <a:latin typeface="Times New Roman"/>
              </a:rPr>
              <a:t>a priori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 to be able t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asymptotically create a given state by LOCC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4760" y="1515960"/>
            <a:ext cx="680868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66"/>
                </a:solidFill>
                <a:latin typeface="Times New Roman"/>
              </a:rPr>
              <a:t>Asymptotic limit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: assume one has a large number </a:t>
            </a:r>
            <a:r>
              <a:rPr b="0" i="1" lang="en-AU" sz="16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 of identically prepared states </a:t>
            </a:r>
            <a:r>
              <a:rPr b="0" lang="en-AU" sz="1600" spc="-1" strike="noStrike">
                <a:solidFill>
                  <a:srgbClr val="000066"/>
                </a:solidFill>
                <a:latin typeface="Math A"/>
                <a:ea typeface="Math A"/>
              </a:rPr>
              <a:t>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and we wish to transform them to a large number </a:t>
            </a:r>
            <a:r>
              <a:rPr b="0" i="1" lang="en-AU" sz="16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 of identical states </a:t>
            </a:r>
            <a:r>
              <a:rPr b="0" lang="en-AU" sz="1600" spc="-1" strike="noStrike">
                <a:solidFill>
                  <a:srgbClr val="000066"/>
                </a:solidFill>
                <a:latin typeface="Math A"/>
                <a:ea typeface="Math A"/>
              </a:rPr>
              <a:t>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7520" y="3021120"/>
            <a:ext cx="820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66"/>
                </a:solidFill>
                <a:latin typeface="Times New Roman"/>
              </a:rPr>
              <a:t>Entanglement of distillation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how many maximally entangled states the parties could distill asymptotically by LOCC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from a given multi-partite state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4600" y="4494240"/>
            <a:ext cx="881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66"/>
                </a:solidFill>
                <a:latin typeface="Times New Roman"/>
              </a:rPr>
              <a:t>Geometric measure of entanglement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the minimum over all separable states of the distance the given state is from a separable state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1120" y="5141880"/>
            <a:ext cx="745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66"/>
                </a:solidFill>
                <a:latin typeface="Times New Roman"/>
              </a:rPr>
              <a:t>Relative entropy of entanglement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the minimum over all separable states of the relative entropy of the given stat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with respect to a separable stat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8560" y="3935520"/>
            <a:ext cx="6354360" cy="3373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Problem: what do we mean by maximally entangled for multi-partite states?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800080"/>
                </a:solidFill>
                <a:latin typeface="Arial"/>
              </a:rPr>
              <a:t>Entanglement Measur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610320" y="6095880"/>
            <a:ext cx="2533680" cy="419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610320" y="6515280"/>
            <a:ext cx="2533680" cy="342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0" y="6130800"/>
            <a:ext cx="676440" cy="7272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06800" y="1441440"/>
            <a:ext cx="83923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For a single qubit |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, define the spin flipped state |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here |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is the complex conjugate of |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taken in a fixed basis, with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expressed in the same basis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For a bipartite state,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16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</a:t>
            </a:r>
            <a:r>
              <a:rPr b="0" lang="en-AU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concurrence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or a pure bipartite state is then defined by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AU" sz="1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|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entanglement of formation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is then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) ],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h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0" lang="en-AU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1 –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C     ,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(1 –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) log (1 – </a:t>
            </a: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96120" y="137016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19360" y="144612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30200" y="23479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91520" y="168912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98680" y="2400480"/>
            <a:ext cx="3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59000" y="33148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5600" y="52894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47480" y="530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98600" y="566424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92440" y="5410080"/>
            <a:ext cx="48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71520" y="5356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1T02:02:20Z</dcterms:created>
  <dc:creator>THE UNIVERSITY OF MELBOURNE</dc:creator>
  <dc:description/>
  <dc:language>en-US</dc:language>
  <cp:lastModifiedBy>ELEC_ENG</cp:lastModifiedBy>
  <cp:lastPrinted>2000-10-12T04:36:32Z</cp:lastPrinted>
  <dcterms:modified xsi:type="dcterms:W3CDTF">2006-02-17T07:18:57Z</dcterms:modified>
  <cp:revision>311</cp:revision>
  <dc:subject/>
  <dc:title>Australian Biomedical Research Funding  new policies, new directions</dc:title>
</cp:coreProperties>
</file>